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D0F3-8273-498C-A3BE-D498810F1F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3E77-20B4-46FD-9AD7-472E548790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6B95-03B8-4EC9-B799-AD261B4347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7F55-1869-4690-B50D-35830E8720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6FF9-47AD-434A-982B-A18F8E15BE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BA8D-9D5B-4761-98DE-6AD20D90AC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6B0B-6F97-4477-B2F8-2F93B96580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96A-72AA-488E-BF56-4748B841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57F-A78C-4704-8F2C-03D01626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7A2-6504-4AE8-80F2-3952078D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42C8-6519-4507-979D-11F4528A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8EF4-C481-4C57-9B5D-7DC55ADE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6FF-AD6E-4148-A719-75DE9A2D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F64-FAC8-4446-AA59-4EAB0D16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A4D-AAB6-422F-9373-3A07B85C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A42-7DB6-4A9E-B3DF-3B591215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648A-B2E6-4A3E-A94C-82CB5781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7445-EEFE-4DBB-9797-D57AEA6E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B2D-1C07-46E3-A78C-818C65BE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12D8B1C-F2B5-4B50-B15C-8B2605641691}" type="datetime12">
              <a:rPr b="0" lang="en-US" sz="1400" spc="-1" strike="noStrike">
                <a:solidFill>
                  <a:srgbClr val="000000"/>
                </a:solidFill>
                <a:latin typeface="Arial"/>
              </a:rPr>
              <a:t>03:04 PM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B746-B250-4A93-BFD5-968F9D71A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5280" y="1052280"/>
            <a:ext cx="5113080" cy="1368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学习习总书记讲话精神</a:t>
            </a:r>
            <a:br>
              <a:rPr sz="28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推进依法治国进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>
            <a:hlinkClick r:id="rId1"/>
          </p:cNvPr>
          <p:cNvSpPr/>
          <p:nvPr/>
        </p:nvSpPr>
        <p:spPr>
          <a:xfrm>
            <a:off x="2057400" y="4876920"/>
            <a:ext cx="525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Verdana"/>
              </a:rPr>
              <a:t>2014</a:t>
            </a:r>
            <a:r>
              <a:rPr b="1" lang="zh-CN" sz="4000" spc="-1" strike="noStrike">
                <a:solidFill>
                  <a:srgbClr val="006600"/>
                </a:solidFill>
                <a:latin typeface="Verdana"/>
              </a:rPr>
              <a:t>年</a:t>
            </a:r>
            <a:r>
              <a:rPr b="1" lang="zh-CN" sz="4000" spc="-1" strike="noStrike">
                <a:solidFill>
                  <a:srgbClr val="006600"/>
                </a:solidFill>
                <a:latin typeface="Verdana"/>
              </a:rPr>
              <a:t>3</a:t>
            </a:r>
            <a:r>
              <a:rPr b="1" lang="zh-CN" sz="4000" spc="-1" strike="noStrike">
                <a:solidFill>
                  <a:srgbClr val="006600"/>
                </a:solidFill>
                <a:latin typeface="Verdana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42900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国家行政学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学部  教授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楷体_GB2312"/>
              </a:rPr>
              <a:t>魏 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79640" y="404640"/>
            <a:ext cx="5977080" cy="136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新一届领导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年多来执政思路的解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2492280"/>
            <a:ext cx="6553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一个大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中国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三个基本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树立国家意识形态的权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推进依法治国、建设法治国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面深化改革、完善国家治理体系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BC44-7EEB-4725-8ABA-FEEF5556609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A7A7C-D6BA-43F9-9792-982E9EC4FD07}" type="datetime12">
              <a:rPr lang="en-US"/>
              <a:t>03:04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050920" y="476280"/>
            <a:ext cx="554544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依法治国的理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2997360"/>
            <a:ext cx="3024000" cy="26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家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才队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律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4FA-1CEA-4A71-ABD7-C7495A926B0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642D4-E871-4A0E-A237-AA076E403669}" type="datetime12">
              <a:rPr lang="en-US"/>
              <a:t>03:04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38280" y="836640"/>
            <a:ext cx="5013360" cy="792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治国家的标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2276640"/>
            <a:ext cx="3960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立法与守法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官员与百姓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政党与国家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横向权力间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纵向权力间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权力交接中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70F-9D69-46D8-B26A-053B37DB5009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E103C-3887-44C2-AC66-C284CADC072F}" type="datetime12">
              <a:rPr lang="en-US"/>
              <a:t>03:04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0920" y="476280"/>
            <a:ext cx="5473800" cy="1297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依法治国的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27280" y="2781360"/>
            <a:ext cx="4392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治思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宪治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善宪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宪审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463A-7246-4665-9D4B-BEB0B9D079F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19616-C3D2-4622-B785-875A2F8963B5}" type="datetime12">
              <a:rPr lang="en-US"/>
              <a:t>03:04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90920" y="685800"/>
            <a:ext cx="4495680" cy="122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制改革的法治思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971800"/>
            <a:ext cx="4281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体制改革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回归宪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依据宪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通过宪法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宪法的母体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培育出新的体制和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3D1-A888-4F1B-93CE-0C5E79C3D2D2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A6FCC-4672-4BF2-8FEA-6FEF21D63CE0}" type="datetime12">
              <a:rPr lang="en-US"/>
              <a:t>03:04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080" cy="812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743200" y="289512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华文彩云"/>
                <a:ea typeface="华文彩云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隶书"/>
                <a:ea typeface="隶书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A22-6F03-45AB-9ACC-72674A1A544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1C3D1-0AD2-4433-9FDD-08F5633B5A25}" type="datetime12">
              <a:rPr lang="en-US"/>
              <a:t>03:04 P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3-04T22:57:28Z</dcterms:modified>
  <cp:revision>1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